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DDB-2942-48A1-A68A-A90CF185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92B-107C-4946-937D-E1543DAD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0A71-AE14-4266-8AAB-95448B2D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023-0CB3-4C81-ABC3-4FDECC3F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D0F-33B1-4652-ACC8-848A8441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954-475A-4E4D-A7EB-64264AEF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39E-F701-4F63-9B75-97ECB6C8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47D-52C1-4289-9B2C-43E28728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8C1D-02BF-47B4-8AD1-CE57498A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2E2-BECF-4935-8E8E-9D1CB62C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371-7EA5-42EB-BE04-764921B5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1B9-B2AE-4163-B44C-1C7CA5D4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32E3-FE76-41D5-905B-CC69F3BC6F63}" type="slidenum">
              <a:rPr b="0" lang="ar-Q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0" y="914400"/>
            <a:ext cx="6858000" cy="8001000"/>
            <a:chOff x="0" y="914400"/>
            <a:chExt cx="6858000" cy="8001000"/>
          </a:xfrm>
        </p:grpSpPr>
        <p:pic>
          <p:nvPicPr>
            <p:cNvPr id="42" name="Picture 9" descr=""/>
            <p:cNvPicPr/>
            <p:nvPr/>
          </p:nvPicPr>
          <p:blipFill>
            <a:blip r:embed="rId1"/>
            <a:srcRect l="0" t="4700" r="0" b="0"/>
            <a:stretch/>
          </p:blipFill>
          <p:spPr>
            <a:xfrm>
              <a:off x="0" y="914400"/>
              <a:ext cx="6858000" cy="800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AutoShape 11"/>
            <p:cNvSpPr/>
            <p:nvPr/>
          </p:nvSpPr>
          <p:spPr>
            <a:xfrm>
              <a:off x="3200400" y="1587960"/>
              <a:ext cx="609480" cy="336600"/>
            </a:xfrm>
            <a:prstGeom prst="rightArrow">
              <a:avLst>
                <a:gd name="adj1" fmla="val 50000"/>
                <a:gd name="adj2" fmla="val 452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12"/>
            <p:cNvSpPr/>
            <p:nvPr/>
          </p:nvSpPr>
          <p:spPr>
            <a:xfrm>
              <a:off x="5867640" y="2598840"/>
              <a:ext cx="304560" cy="673560"/>
            </a:xfrm>
            <a:prstGeom prst="downArrow">
              <a:avLst>
                <a:gd name="adj1" fmla="val 50000"/>
                <a:gd name="adj2" fmla="val 552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/>
            <p:cNvSpPr/>
            <p:nvPr/>
          </p:nvSpPr>
          <p:spPr>
            <a:xfrm>
              <a:off x="5943600" y="6641640"/>
              <a:ext cx="304560" cy="673560"/>
            </a:xfrm>
            <a:prstGeom prst="downArrow">
              <a:avLst>
                <a:gd name="adj1" fmla="val 50000"/>
                <a:gd name="adj2" fmla="val 552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/>
            <p:cNvSpPr/>
            <p:nvPr/>
          </p:nvSpPr>
          <p:spPr>
            <a:xfrm flipH="1">
              <a:off x="3123360" y="7820640"/>
              <a:ext cx="609480" cy="336600"/>
            </a:xfrm>
            <a:prstGeom prst="rightArrow">
              <a:avLst>
                <a:gd name="adj1" fmla="val 50000"/>
                <a:gd name="adj2" fmla="val 452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/>
            <p:cNvSpPr/>
            <p:nvPr/>
          </p:nvSpPr>
          <p:spPr>
            <a:xfrm flipV="1">
              <a:off x="685800" y="6556680"/>
              <a:ext cx="304560" cy="673560"/>
            </a:xfrm>
            <a:prstGeom prst="downArrow">
              <a:avLst>
                <a:gd name="adj1" fmla="val 50000"/>
                <a:gd name="adj2" fmla="val 552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2362320" y="501156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304920" y="3049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teps of the Research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17:14Z</dcterms:created>
  <dc:creator>Gene</dc:creator>
  <dc:description/>
  <dc:language>en-US</dc:language>
  <cp:lastModifiedBy>Gene</cp:lastModifiedBy>
  <dcterms:modified xsi:type="dcterms:W3CDTF">2008-03-03T17:18:03Z</dcterms:modified>
  <cp:revision>1</cp:revision>
  <dc:subject/>
  <dc:title>Slide 1</dc:title>
</cp:coreProperties>
</file>